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7FA0-1156-4563-A0BD-9DED95E122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8E90-67E1-4C52-A61B-C6ABE55010D8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C039-1DC2-43ED-B007-8B60249D7508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A771-1903-41B4-8C6C-CE7A30707EDD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1C91-CE94-4319-B1A8-012C3F9F13D5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EE16-CC2A-467C-8331-FDC9181E8BBE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B803-D868-46F2-81D8-800AB3EE789C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81EC-ED46-4E41-8014-A01C5A95666D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4412-E320-4549-BD31-3C50D4EF4090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A40A-5558-48FF-81E5-4F3C8C2848D5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22F4-3ACE-4AE7-A86F-0A2584ADCB56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40BA-D16A-4DDE-B325-405E031B179B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E4C5-2793-4D3D-9E6C-75300C39F692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065-783E-414D-AEDF-776DC699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487-1037-4767-A49C-FBFDDD15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D90-0CD2-4DDE-B631-F9DD5B24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688-D880-451A-B714-4DFEBEAD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E9F-B4D1-4F05-B4BB-BCC69A84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1CD-7D2E-4C42-B335-49CC9A6A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DA9-8C86-4563-BDBD-E6BACA03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915-A6CE-47EA-BEA5-7F9B1C8A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C26-773F-445B-B71F-7F47C4DC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7C7-5779-4E39-AF69-72223F18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E7C-C6EB-4DC5-B686-3C0FEA5C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DFC-47D0-456C-A528-384412BF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2E57-563D-4D3D-99B5-8971B31C1B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Feminizing of the medical prof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cc"/>
                </a:solidFill>
                <a:latin typeface="Arial"/>
              </a:rPr>
              <a:t>(Situation 10.11.2009)</a:t>
            </a: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>
            <a:off x="539640" y="170028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714240" y="550080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itle 1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medical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rcRect l="0" t="4390" r="54688" b="6026"/>
          <a:stretch/>
        </p:blipFill>
        <p:spPr>
          <a:xfrm>
            <a:off x="2268360" y="1484280"/>
            <a:ext cx="3529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outpatien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4000" y="278136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rcRect l="0" t="4314" r="54676" b="6114"/>
          <a:stretch/>
        </p:blipFill>
        <p:spPr>
          <a:xfrm>
            <a:off x="2627280" y="1413000"/>
            <a:ext cx="3600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hospit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278136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0" t="3951" r="53967" b="7318"/>
          <a:stretch/>
        </p:blipFill>
        <p:spPr>
          <a:xfrm>
            <a:off x="2340000" y="1484280"/>
            <a:ext cx="3529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53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Overall fig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7"/>
          <p:cNvSpPr/>
          <p:nvPr/>
        </p:nvSpPr>
        <p:spPr>
          <a:xfrm>
            <a:off x="539640" y="170028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714240" y="550080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itle 1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6440" y="2349360"/>
            <a:ext cx="7492680" cy="2560320"/>
            <a:chOff x="766440" y="2349360"/>
            <a:chExt cx="7492680" cy="2560320"/>
          </a:xfrm>
        </p:grpSpPr>
        <p:sp>
          <p:nvSpPr>
            <p:cNvPr id="67" name=""/>
            <p:cNvSpPr/>
            <p:nvPr/>
          </p:nvSpPr>
          <p:spPr>
            <a:xfrm>
              <a:off x="1729800" y="2454120"/>
              <a:ext cx="62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Sec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22040" y="24541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8480" y="287460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95240" y="287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in 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91200" y="287460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22240" y="287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in 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9640" y="3295440"/>
              <a:ext cx="1645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utpatient sec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59040" y="329544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43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37000" y="32954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9.4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73360" y="32954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65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35560" y="32954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0.6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35600" y="32954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09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6040" y="3717720"/>
              <a:ext cx="892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ospita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9040" y="37177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70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7000" y="371772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.4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92520" y="37177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40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35560" y="371772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9.6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35600" y="371772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10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8200" y="414000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79640" y="41400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37000" y="414000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8.1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13120" y="41400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3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35560" y="414000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1.9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76800" y="41400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400" y="455904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700" spc="-1" strike="noStrike">
                  <a:solidFill>
                    <a:srgbClr val="000000"/>
                  </a:solidFill>
                  <a:latin typeface="Arial"/>
                </a:rPr>
                <a:t>Alltoge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0280" y="45590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1026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95600" y="45590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34.6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3760" y="45590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1938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94520" y="45590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65.4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7440" y="45590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2965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50200" y="2442960"/>
              <a:ext cx="745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om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01600" y="24429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M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6440" y="2349360"/>
              <a:ext cx="749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6440" y="2349360"/>
              <a:ext cx="7492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6440" y="3182760"/>
              <a:ext cx="749268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6440" y="4457520"/>
              <a:ext cx="749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6440" y="4457520"/>
              <a:ext cx="7492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440" y="4868640"/>
              <a:ext cx="749268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53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2800" spc="-1" strike="noStrike">
                <a:solidFill>
                  <a:srgbClr val="0000cc"/>
                </a:solidFill>
                <a:latin typeface="Arial"/>
              </a:rPr>
              <a:t>Women’s ratio in students and grad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7"/>
          <p:cNvSpPr/>
          <p:nvPr/>
        </p:nvSpPr>
        <p:spPr>
          <a:xfrm>
            <a:off x="539640" y="170028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9"/>
          <p:cNvSpPr/>
          <p:nvPr/>
        </p:nvSpPr>
        <p:spPr>
          <a:xfrm>
            <a:off x="714240" y="550080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itle 1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7794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2800" spc="-1" strike="noStrike">
                <a:solidFill>
                  <a:srgbClr val="0000cc"/>
                </a:solidFill>
                <a:latin typeface="Arial"/>
              </a:rPr>
              <a:t>Development of women in medical prac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itle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7081920" cy="396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3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Practising women’s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itle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4360" y="1700280"/>
            <a:ext cx="7369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Women’s progression by  sectors of medic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itle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729792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Tendency of women’s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itle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77058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Women’s ratio in     specia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itle 1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1280" y="1484280"/>
            <a:ext cx="7490880" cy="4534920"/>
            <a:chOff x="611280" y="1484280"/>
            <a:chExt cx="7490880" cy="4534920"/>
          </a:xfrm>
        </p:grpSpPr>
        <p:graphicFrame>
          <p:nvGraphicFramePr>
            <p:cNvPr id="170" name=""/>
            <p:cNvGraphicFramePr/>
            <p:nvPr/>
          </p:nvGraphicFramePr>
          <p:xfrm>
            <a:off x="611280" y="1484280"/>
            <a:ext cx="7490880" cy="4534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280" y="1484280"/>
                      <a:ext cx="7490880" cy="45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5137560" y="2230560"/>
              <a:ext cx="0" cy="24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74840" y="406152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05080" y="45684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75960" y="300528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30440" y="247716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65920" y="194904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55840" y="431028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7320" y="325404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3840" y="482688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08080" y="379152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17720" y="35334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200" y="27468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7200" y="5087160"/>
              <a:ext cx="0" cy="24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05480" y="53550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Swiss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rcRect l="0" t="4082" r="54688" b="7563"/>
          <a:stretch/>
        </p:blipFill>
        <p:spPr>
          <a:xfrm>
            <a:off x="2411280" y="1557360"/>
            <a:ext cx="388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02:43Z</dcterms:created>
  <dc:creator>user</dc:creator>
  <dc:description/>
  <dc:language>en-US</dc:language>
  <cp:lastModifiedBy>user</cp:lastModifiedBy>
  <dcterms:modified xsi:type="dcterms:W3CDTF">2010-05-11T12:36:37Z</dcterms:modified>
  <cp:revision>5</cp:revision>
  <dc:subject/>
  <dc:title> </dc:title>
</cp:coreProperties>
</file>